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7.gif" ContentType="image/gif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141-F5DF-4A33-B92F-1BEB7DFA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937-2260-4DDB-A68F-7073F4F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AB1-8EA2-463A-BC7F-E03FF08D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A76C-27A8-4BB2-A162-3C397C2F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2F2-B424-4029-B65F-A9D90103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B33-2D83-4858-BAF7-D2EF3DD4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4168-D34B-41BF-9DB3-9CF0F142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8B9F-7C33-4ED2-B411-A5AD793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72C6-84F0-4EAF-B087-9E692A1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DFDE-D121-490A-A02D-C9D9D06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1DCD-9122-4302-A07E-FE23DD3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0CE-D851-4866-BA14-5DCCE33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96B-D014-487C-BFD2-4444667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4FDA-2527-4E46-8DEA-984FF91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E3F-EBE3-44FD-8561-9BF5027D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649E-BFE4-4EB2-B8B5-B1A0B74B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924-94FB-4A11-B202-99B8013C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B02-B8AD-41BB-9D53-4C803AB8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B4E-1531-4D01-914F-2D66AF1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3F1-4D7C-44A8-AEA7-D79BD5C6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855-5DFC-4E6C-BB6D-8CEAC4C1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874-8CF8-4B57-8068-FC7B631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A79-7B70-47D4-9048-85F5CA7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93A-1F9C-4216-A02E-276A7BCB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8DD-DBC4-412D-A374-D54EB61E1A8A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211-54CD-4147-AAEE-DB53D564C185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82560" y="353880"/>
            <a:ext cx="7785000" cy="1650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i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Vo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cha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C:\Program Files\Microsoft Office\Media\CntCD1\ClipArt1\j0078628.wmf"/>
          <p:cNvPicPr/>
          <p:nvPr/>
        </p:nvPicPr>
        <p:blipFill>
          <a:blip r:embed="rId9"/>
          <a:stretch/>
        </p:blipFill>
        <p:spPr>
          <a:xfrm>
            <a:off x="571680" y="2071800"/>
            <a:ext cx="2803320" cy="343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Program Files\Microsoft Office\Media\CntCD1\ClipArt1\j0078624.wmf"/>
          <p:cNvPicPr/>
          <p:nvPr/>
        </p:nvPicPr>
        <p:blipFill>
          <a:blip r:embed="rId10"/>
          <a:stretch/>
        </p:blipFill>
        <p:spPr>
          <a:xfrm>
            <a:off x="6178680" y="2643120"/>
            <a:ext cx="29653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made by parliam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rule or set of rules recognised by society as bi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429080" y="2500200"/>
            <a:ext cx="4006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for a new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4" descr="C:\Program Files\Microsoft Office\Media\CntCD1\ClipArt7\j0339256.wmf"/>
          <p:cNvPicPr/>
          <p:nvPr/>
        </p:nvPicPr>
        <p:blipFill>
          <a:blip r:embed="rId2"/>
          <a:stretch/>
        </p:blipFill>
        <p:spPr>
          <a:xfrm>
            <a:off x="5286240" y="3429000"/>
            <a:ext cx="3214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omeone who ru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4" descr="C:\Program Files\Microsoft Office\Media\CntCD1\ClipArt3\j0233787.wmf"/>
          <p:cNvPicPr/>
          <p:nvPr/>
        </p:nvPicPr>
        <p:blipFill>
          <a:blip r:embed="rId2"/>
          <a:stretch/>
        </p:blipFill>
        <p:spPr>
          <a:xfrm>
            <a:off x="4924440" y="3471840"/>
            <a:ext cx="3990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exception  of cho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4" descr="d:\Users\matts.STAWELL-PS\AppData\Local\Microsoft\Windows\Temporary Internet Files\Content.IE5\V4NFDNMG\MPj03847260000[1].jpg"/>
          <p:cNvPicPr/>
          <p:nvPr/>
        </p:nvPicPr>
        <p:blipFill>
          <a:blip r:embed="rId2"/>
          <a:stretch/>
        </p:blipFill>
        <p:spPr>
          <a:xfrm>
            <a:off x="5429160" y="3214800"/>
            <a:ext cx="3233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ederal means having to do with the Parliament of Australia and/or Australian Government rather than state parliaments and/or state governm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C:\Program Files\Microsoft Office\Media\CntCD1\ClipArt4\j0251099.wmf"/>
          <p:cNvPicPr/>
          <p:nvPr/>
        </p:nvPicPr>
        <p:blipFill>
          <a:blip r:embed="rId2"/>
          <a:stretch/>
        </p:blipFill>
        <p:spPr>
          <a:xfrm>
            <a:off x="5643720" y="4187880"/>
            <a:ext cx="3217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57120" y="1285920"/>
            <a:ext cx="83296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A room that is private and were meetings are discussed   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Back to glossary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4" descr="C:\Program Files\Microsoft Office\Media\CntCD1\ClipArt5\j0287436.wmf"/>
          <p:cNvPicPr/>
          <p:nvPr/>
        </p:nvPicPr>
        <p:blipFill>
          <a:blip r:embed="rId2"/>
          <a:stretch/>
        </p:blipFill>
        <p:spPr>
          <a:xfrm>
            <a:off x="4983120" y="3529080"/>
            <a:ext cx="29592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ave a good day or n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d:\Users\matts.STAWELL-PS\AppData\Local\Microsoft\Windows\Temporary Internet Files\Content.IE5\3REW8JMV\MCj04283470000[1].wmf"/>
          <p:cNvPicPr/>
          <p:nvPr/>
        </p:nvPicPr>
        <p:blipFill>
          <a:blip r:embed="rId2"/>
          <a:stretch/>
        </p:blipFill>
        <p:spPr>
          <a:xfrm>
            <a:off x="3352680" y="2419200"/>
            <a:ext cx="479772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31:00Z</dcterms:created>
  <dc:creator>Education</dc:creator>
  <dc:description/>
  <dc:language>en-US</dc:language>
  <cp:lastModifiedBy>Education</cp:lastModifiedBy>
  <dcterms:modified xsi:type="dcterms:W3CDTF">2009-10-27T23:24:54Z</dcterms:modified>
  <cp:revision>15</cp:revision>
  <dc:subject/>
  <dc:title>Matts glossary</dc:title>
</cp:coreProperties>
</file>